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3EF-0943-4C06-9C1D-30B53F47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86F-2EE3-48FE-9A93-8DF1F040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25B3-EA8E-4972-96CB-64DC1FA1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8E2-706E-4EAA-B7B6-BD38B810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461F-C05E-41FC-B060-7BFCBDB1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44D3-11C3-491A-B121-8AF6EF77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EFD2-362F-4461-B208-19819EFB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FEAF-3B1F-47A1-A41A-072916E5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11B6-22DA-42B5-A7FC-0B22A79C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9059-61A2-4596-B736-1BB18750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8DD1-EC90-4F96-A1B9-0F78EDDA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0AF-2961-4F36-9093-18446463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8412-863F-41E7-A14A-49CAC459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6FBA-7DFD-4592-9471-FD87DD03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FE5C-3562-4961-BE74-8A366ADF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5E00-0A83-4DE7-B94F-68F8D7ED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46E7-9579-4FD6-A775-8F791BEF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482-0016-4A35-9195-3BB01EA6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ECF1-0139-41C8-8A21-8D47C044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F1D-DC7A-4D21-9C9A-88DD9225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743-A139-40CE-A2B9-233977DF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23A-480A-4ED0-BB99-F6DEB57A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22F4-F7C7-496F-9617-E98515D3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5730-0BC5-4022-8C9F-87841169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774F-12EB-42B5-BA2A-56B862B29691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Z:\JAVNA UPRAVA 2010\Si CGP\CGP_prirocnik_WEB\OUT\05 Medijsko promocijski elementi\11 PPT predstavitev\untitled folder\ozadje-0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961920" y="755640"/>
            <a:ext cx="2779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GOSPODARSKI RAZVOJ IN TEHNOLOGI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grb moder za 10 pt.wmf"/>
          <p:cNvPicPr/>
          <p:nvPr/>
        </p:nvPicPr>
        <p:blipFill>
          <a:blip r:embed="rId4"/>
          <a:stretch/>
        </p:blipFill>
        <p:spPr>
          <a:xfrm>
            <a:off x="639720" y="760320"/>
            <a:ext cx="166680" cy="222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71640" y="6780240"/>
            <a:ext cx="1495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63FA-13FD-4F2F-A2F1-4AA679680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grada številke diapozitiva 2"/>
          <p:cNvSpPr/>
          <p:nvPr/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A9CB-B3B8-413E-9BF1-8F015C848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7326360"/>
          </a:xfrm>
          <a:prstGeom prst="rect">
            <a:avLst/>
          </a:prstGeom>
          <a:ln w="0">
            <a:noFill/>
          </a:ln>
        </p:spPr>
      </p:pic>
      <p:sp>
        <p:nvSpPr>
          <p:cNvPr id="87" name="Pravokotnik 9"/>
          <p:cNvSpPr/>
          <p:nvPr/>
        </p:nvSpPr>
        <p:spPr>
          <a:xfrm>
            <a:off x="1143000" y="2943360"/>
            <a:ext cx="6500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Horizontalni ukrepi v okviru kohezijske politike (tehnična pomoč)</a:t>
            </a:r>
            <a:br>
              <a:rPr sz="4000"/>
            </a:br>
            <a:br>
              <a:rPr sz="4000"/>
            </a:b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maj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lika 5" descr="logo_nova vladna služba_SLO"/>
          <p:cNvPicPr/>
          <p:nvPr/>
        </p:nvPicPr>
        <p:blipFill>
          <a:blip r:embed="rId2"/>
          <a:stretch/>
        </p:blipFill>
        <p:spPr>
          <a:xfrm>
            <a:off x="433440" y="849240"/>
            <a:ext cx="37782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928800" y="871560"/>
            <a:ext cx="7500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Stanje izvajanja tehnične pomoči na dan 30.0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57360" y="545796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34ea2"/>
                </a:solidFill>
                <a:latin typeface="Arial"/>
              </a:rPr>
              <a:t>Do konca meseca marca 2014 je realizacija tehnične pomoči znašala približno 68,05 mio EUR ali 65,2 % vseh razpoložljivih sredstev tehnične pomoči. Do konca finančnega obdobja 2007-2013 (31.12.2015) je potrebno porabiti še 36.3 mio EUR ali 34,8 % razpoložljivih sredstev tehnične pomoč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afikon 6" descr=""/>
          <p:cNvPicPr/>
          <p:nvPr/>
        </p:nvPicPr>
        <p:blipFill>
          <a:blip r:embed="rId1"/>
          <a:stretch/>
        </p:blipFill>
        <p:spPr>
          <a:xfrm>
            <a:off x="542880" y="1158840"/>
            <a:ext cx="8352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Ukrepi na področju izvajanja tehnične pomoč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281240"/>
            <a:ext cx="81374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Vlada RS je ob koncu leta 2013 sprejela akcijski načrt za pospešitev črpanja evropskih kohezijskih sreds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Ukrepe za pospešitev izvajanje tehnične pomoči s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o zaposlovanje iz sredstev tehnične pomoči – do sedaj smo jih na OU dodatno potrdili 58 zaposli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a usposabljanja/izobraževanja, ki jih organizira organ upravljanja - do sedaj smo jih na OU izvedli 21 usposabljanja/izobraževanja  za različna področja (učinkovita priprava ZZP-jev, upravljanje in vodenje projektov v državni upravi, javna naročila, državne pomoči, računovodenje, usposabljanje na področju gradbenih investicij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pripravljalne aktivnosti, ki se nanašajo na finančno obdobje 2014-2020 (vrednotena, študije, analize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rcRect l="14513" t="0" r="14402" b="10723"/>
          <a:stretch/>
        </p:blipFill>
        <p:spPr>
          <a:xfrm>
            <a:off x="1666800" y="2301840"/>
            <a:ext cx="4608720" cy="2651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943280" y="4952880"/>
            <a:ext cx="586872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Načrti </a:t>
            </a:r>
            <a:r>
              <a:rPr b="1" lang="it-IT" sz="2000" spc="-1" strike="noStrike">
                <a:solidFill>
                  <a:srgbClr val="034ea2"/>
                </a:solidFill>
                <a:latin typeface="Arial"/>
              </a:rPr>
              <a:t>za leti 2014 in 2015</a:t>
            </a: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 v okviru tehnične pomoči 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3640" y="1641600"/>
            <a:ext cx="81356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dodatna izobraževanja/usposabljanja za konkretne ciljne skupine (npr. ločeno kontrolorji, skrbniki pogodb, upravičenci, ipd.) na konkretnih področjih (javno naročanje, računovodstvo in knjigovodstvo, državne pomoči, ipd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ev aktivnosti na področju vrednotenja in študij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i aktivnosti , ki se nanašajo na področje obveščanja javnost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kadrovska okrepitev na področju kjer so potrebe (npr. kontrolorj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financiranje pripravljalnih aktivnosti za 2014-2020 (npr. predhodne pogojenost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10:14:35Z</dcterms:modified>
  <cp:revision>216</cp:revision>
  <dc:subject/>
  <dc:title>Naslov</dc:title>
</cp:coreProperties>
</file>